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4.gif" ContentType="image/gif"/>
  <Override PartName="/ppt/media/image1.png" ContentType="image/png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13.jpeg" ContentType="image/jpeg"/>
  <Override PartName="/ppt/media/image2.gif" ContentType="image/gif"/>
  <Override PartName="/ppt/media/image5.png" ContentType="image/png"/>
  <Override PartName="/ppt/media/image8.png" ContentType="image/png"/>
  <Override PartName="/ppt/media/image9.png" ContentType="image/png"/>
  <Override PartName="/ppt/media/image10.gif" ContentType="image/gif"/>
  <Override PartName="/ppt/media/image11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C948-AEB8-4458-AEBF-62B75F9A8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273D-AEAD-461F-B1F2-46AC7378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3266-6EE4-4E43-A3B7-C889C1C2A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1C62-1DB0-4929-AA5D-ECC7E8385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12FC-AE13-4619-A61B-F15E4D9B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CFC3-859D-4C63-A610-ADA0F178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1451-FCE9-4CA3-99FE-3B68A116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5AA0-C5B9-4DFE-AC43-20FDC7E3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0FE5-D190-4C51-B4B3-AB450767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733C-94C9-442A-8EE5-86AFF2FF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BD94-25D4-433A-AD48-749A3BF9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0505-9376-4FFF-9F24-591134B0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ee8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3522-B154-4B69-976C-54B6748CB4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无标题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2924280" cy="2971800"/>
          </a:xfrm>
          <a:prstGeom prst="rect">
            <a:avLst/>
          </a:prstGeom>
          <a:ln w="0">
            <a:noFill/>
          </a:ln>
        </p:spPr>
      </p:pic>
      <p:pic>
        <p:nvPicPr>
          <p:cNvPr id="42" name="vvv" descr=""/>
          <p:cNvPicPr/>
          <p:nvPr/>
        </p:nvPicPr>
        <p:blipFill>
          <a:blip r:embed="rId2"/>
          <a:stretch/>
        </p:blipFill>
        <p:spPr>
          <a:xfrm>
            <a:off x="1676520" y="-304920"/>
            <a:ext cx="4754520" cy="3840120"/>
          </a:xfrm>
          <a:prstGeom prst="rect">
            <a:avLst/>
          </a:prstGeom>
          <a:ln w="0">
            <a:noFill/>
          </a:ln>
        </p:spPr>
      </p:pic>
      <p:pic>
        <p:nvPicPr>
          <p:cNvPr id="43" name="ppp" descr=""/>
          <p:cNvPicPr/>
          <p:nvPr/>
        </p:nvPicPr>
        <p:blipFill>
          <a:blip r:embed="rId3"/>
          <a:stretch/>
        </p:blipFill>
        <p:spPr>
          <a:xfrm>
            <a:off x="2362320" y="1143000"/>
            <a:ext cx="3657600" cy="2666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250960" y="6114960"/>
            <a:ext cx="31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Chiller"/>
              </a:rPr>
              <a:t>By Tian Fengch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335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ee8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未命名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3886200" cy="5257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613960" y="0"/>
            <a:ext cx="23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Verdana"/>
              </a:rPr>
              <a:t>Who i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3962520" cy="5257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rot="21566400">
            <a:off x="1981080" y="5943600"/>
            <a:ext cx="629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Verdana"/>
                <a:ea typeface="PMingLiU"/>
              </a:rPr>
              <a:t>Albert Einste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ee8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629400" y="4876920"/>
            <a:ext cx="2119320" cy="1752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990720" y="533520"/>
            <a:ext cx="64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 Narrow"/>
              </a:rPr>
              <a:t>Listen to the passage to find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 Narrow"/>
              </a:rPr>
              <a:t>answers to these 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80160" y="23623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Cooper Black"/>
              </a:rPr>
              <a:t>1.What scientific work is Einstein famous f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40920" y="4267080"/>
            <a:ext cx="66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Cooper Black"/>
              </a:rPr>
              <a:t>2.Where did he spend the last part of his lif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82480" y="3352680"/>
            <a:ext cx="672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oper Black"/>
              </a:rPr>
              <a:t>Scientific research/new discoveries in phys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70600" y="5029200"/>
            <a:ext cx="38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oper Black"/>
              </a:rPr>
              <a:t>At a university in the U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ee8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3960" y="380880"/>
            <a:ext cx="523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Details about Albert Eins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7880" y="933480"/>
            <a:ext cx="6473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or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i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udi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ork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octor’s degre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cientific resear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teres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at he got for his new discove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oved to the US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89480" y="1066680"/>
            <a:ext cx="42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On Much 14</a:t>
            </a:r>
            <a:r>
              <a:rPr b="1" i="1" lang="en-US" sz="2400" spc="-1" strike="noStrike" baseline="30000">
                <a:solidFill>
                  <a:srgbClr val="006600"/>
                </a:solidFill>
                <a:latin typeface="Times New Roman"/>
              </a:rPr>
              <a:t>th</a:t>
            </a: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,1879;in 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89120" y="1523880"/>
            <a:ext cx="39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On April 18</a:t>
            </a:r>
            <a:r>
              <a:rPr b="1" i="1" lang="en-US" sz="2400" spc="-1" strike="noStrike" baseline="30000">
                <a:solidFill>
                  <a:srgbClr val="006600"/>
                </a:solidFill>
                <a:latin typeface="Times New Roman"/>
              </a:rPr>
              <a:t>th</a:t>
            </a: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,1955;in th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8480" y="19810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In Switzer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06080" y="243828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First as a teacher,then in a government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07480" y="297180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In 19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3600" y="3505320"/>
            <a:ext cx="30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Between 1905and 19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71600" y="39276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Mu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2160" y="4384800"/>
            <a:ext cx="230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Receiv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worldwide pra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45600" y="5375160"/>
            <a:ext cx="30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In 1933 with his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82960" y="2936880"/>
            <a:ext cx="374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(in the University of Zuri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34880" y="1981080"/>
            <a:ext cx="51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(in the Federal Institute of Technolo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albert2" descr=""/>
          <p:cNvPicPr/>
          <p:nvPr/>
        </p:nvPicPr>
        <p:blipFill>
          <a:blip r:embed="rId1"/>
          <a:stretch/>
        </p:blipFill>
        <p:spPr>
          <a:xfrm>
            <a:off x="7350120" y="5334120"/>
            <a:ext cx="15843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ee8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15640" y="84240"/>
            <a:ext cx="439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Verdana"/>
              </a:rPr>
              <a:t>True or false exerci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9080" y="574560"/>
            <a:ext cx="814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.Albert Einstein was curious about everything around him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e was yo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16120" y="141300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2.He had learned everything all by him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14320" y="2022480"/>
            <a:ext cx="816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3.He did not like to go to school and he found it hard to get a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with ot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17200" y="2936880"/>
            <a:ext cx="78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4.The period between 1905 and 1915 was a very important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for he received higher education at univers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15760" y="3851280"/>
            <a:ext cx="42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5.Einstein cared little for mon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18280" y="4384800"/>
            <a:ext cx="763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6.Once somebody saw him using a bank note as a bookma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8000" y="4800600"/>
            <a:ext cx="791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7.Einstein also spent a lit of time working for human right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prog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3760" y="5638680"/>
            <a:ext cx="44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8.Einstein loved music very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804600">
            <a:off x="533160" y="53316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804600">
            <a:off x="609120" y="19807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3886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804600">
            <a:off x="609120" y="38095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804600">
            <a:off x="609120" y="47239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804600">
            <a:off x="609120" y="56383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5440" y="137160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5440" y="289548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5440" y="434340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010280" y="5376960"/>
          <a:ext cx="1905120" cy="14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5376960"/>
                    <a:ext cx="190512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ee8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89120" y="304920"/>
            <a:ext cx="30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Language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line05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4857480" cy="152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4600" y="196056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.be 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150336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1295280"/>
              <a:gd name="textAreaBottom" fmla="*/ 127368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82"/>
                  <a:pt x="10800" y="1163"/>
                </a:cubicBezTo>
                <a:lnTo>
                  <a:pt x="10800" y="10275"/>
                </a:lnTo>
                <a:cubicBezTo>
                  <a:pt x="10800" y="10857"/>
                  <a:pt x="5400" y="11438"/>
                  <a:pt x="0" y="11438"/>
                </a:cubicBezTo>
                <a:cubicBezTo>
                  <a:pt x="5400" y="11438"/>
                  <a:pt x="10800" y="12020"/>
                  <a:pt x="10800" y="12601"/>
                </a:cubicBezTo>
                <a:lnTo>
                  <a:pt x="10800" y="20437"/>
                </a:lnTo>
                <a:cubicBezTo>
                  <a:pt x="10800" y="2101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04680" y="1295280"/>
            <a:ext cx="29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o do sth(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高兴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/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甘心做…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01800" y="2417760"/>
            <a:ext cx="26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ith sth(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对…感到满足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08480" y="1655640"/>
            <a:ext cx="49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He is content to live in the country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20368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Tom is content to eat simple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98760" y="2819520"/>
            <a:ext cx="54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No one is content with what he h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09920" y="3200400"/>
            <a:ext cx="44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Don’t be content with small pra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6800" y="3637080"/>
            <a:ext cx="83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Cf. John </a:t>
            </a:r>
            <a:r>
              <a:rPr b="0" lang="en-US" sz="2400" spc="-1" strike="noStrike" u="sng">
                <a:solidFill>
                  <a:srgbClr val="990099"/>
                </a:solidFill>
                <a:uFillTx/>
                <a:latin typeface="Times New Roman"/>
              </a:rPr>
              <a:t>contented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 himself with two glasses of beer for each me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0680" y="48211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.lea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4551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41440" y="4363920"/>
            <a:ext cx="11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通，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24320" y="527832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(2)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导致某种结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73280" y="482112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All roads lead to R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69320" y="5583240"/>
            <a:ext cx="41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The accident led to three dea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50680" y="5964120"/>
            <a:ext cx="357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Hard work leads to su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ZW_008" descr=""/>
          <p:cNvPicPr/>
          <p:nvPr/>
        </p:nvPicPr>
        <p:blipFill>
          <a:blip r:embed="rId2"/>
          <a:stretch/>
        </p:blipFill>
        <p:spPr>
          <a:xfrm>
            <a:off x="6934320" y="510552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ee8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36160" y="803160"/>
            <a:ext cx="28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live a…life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过着…生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20320" y="1260360"/>
            <a:ext cx="51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The peasants in the past lived a hard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0480" y="1752480"/>
            <a:ext cx="35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Poor Tom lives a dog’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76320" y="2251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C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39760" y="2743200"/>
            <a:ext cx="38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99"/>
                </a:solidFill>
                <a:latin typeface="Times New Roman"/>
              </a:rPr>
              <a:t>Liu Hulan died a heroic de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0840" y="312408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She dreamt a sound dr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75960" y="3657600"/>
            <a:ext cx="43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uch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位于句首，表示“这”或“这些”时，谓语动词要倒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720" y="430848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Such is my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39760" y="484200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Such was the situation we were fac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4440" y="545148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Such were his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55960" y="6019920"/>
            <a:ext cx="41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Such are the results we have g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line23" descr=""/>
          <p:cNvPicPr/>
          <p:nvPr/>
        </p:nvPicPr>
        <p:blipFill>
          <a:blip r:embed="rId1"/>
          <a:stretch/>
        </p:blipFill>
        <p:spPr>
          <a:xfrm>
            <a:off x="1752480" y="430200"/>
            <a:ext cx="60199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s1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ooo" descr=""/>
          <p:cNvPicPr/>
          <p:nvPr/>
        </p:nvPicPr>
        <p:blipFill>
          <a:blip r:embed="rId2"/>
          <a:stretch/>
        </p:blipFill>
        <p:spPr>
          <a:xfrm>
            <a:off x="2743200" y="20574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34:19Z</dcterms:created>
  <dc:creator>Terence</dc:creator>
  <dc:description/>
  <dc:language>en-US</dc:language>
  <cp:lastModifiedBy>Terence</cp:lastModifiedBy>
  <dcterms:modified xsi:type="dcterms:W3CDTF">2002-03-01T16:48:23Z</dcterms:modified>
  <cp:revision>20</cp:revision>
  <dc:subject/>
  <dc:title>PowerPoint 演示文稿</dc:title>
</cp:coreProperties>
</file>